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DAF-DCC6-4304-8F0A-CBCD1149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E18-60D8-411C-98B1-56C08265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BE8-2571-4FFA-8985-0E4FBC06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2C5-CE79-4AD0-B2AD-DED930BE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8AB-AED2-4E87-B5F7-583A410D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CF8-D974-45EA-837F-AADA7BD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111-67E2-4725-96BA-355F6878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3D6-1B6A-494F-B741-A7DC2C30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FE9-43C2-4D73-82BC-322BD4C5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3FE-5C2B-4451-B264-F3589362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5F7-5A47-463C-A347-17608AC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6A0-71E9-4CD8-8B35-27BB896E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E5A4-5457-430D-B9E0-BD550C0112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news.sohu.com/85/08/news209680885.s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sohu.com/86/85/news209678586.s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254160"/>
            <a:ext cx="6985080" cy="660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2492280"/>
            <a:ext cx="5832720" cy="1739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Monotype Corsiva"/>
              </a:rPr>
              <a:t>A CITY OF HERO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48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UNIT 7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　</a:t>
            </a:r>
            <a:r>
              <a:rPr b="0" i="1" lang="zh-CN" sz="4000" spc="-1" strike="noStrike">
                <a:solidFill>
                  <a:srgbClr val="ff33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566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课件制作　　傅国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13892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87280" y="765000"/>
            <a:ext cx="1872000" cy="4597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e or 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628640"/>
            <a:ext cx="7740720" cy="3972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y of St Petersburg was rebuilt by Peter the G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rmans attacked St Petersburg a hundred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rtrait of Peter the Great was destroyed by the Ger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difficult for people to rebuild the old pa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 and painters used old photographs to help them rebuild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 Petersburg will never be as beautiful as it wa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8520" y="41497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852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270828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952720" cy="525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907920"/>
            <a:ext cx="3311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532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333360"/>
            <a:ext cx="395892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Useful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349360"/>
            <a:ext cx="561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smoke, there is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water, there i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440" y="1219320"/>
            <a:ext cx="53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re there is a river, there is a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907920"/>
            <a:ext cx="1858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1268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trong, proud and unite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, the people of St. Petersburg are modern heroes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637000"/>
            <a:ext cx="70581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ngry and afraid, she didn’t give a rep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e went to bed, cold and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Full of fear, he returned to his c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47628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Tell 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the text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</a:rPr>
              <a:t>again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 using about 100 word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19700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1052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te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xt using about 100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700280"/>
            <a:ext cx="8353440" cy="3781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rank the coffee at one mouthful, and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 pot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ree hours’ terrible fight, the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g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trol of the top of the hill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disappearance of SARS, some theatres and restaurants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opened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ents are ask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 homework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all of us need t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think a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bout our attitudes toward the public health after S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5661000"/>
            <a:ext cx="7272360" cy="155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Monotype Corsiva"/>
              </a:rPr>
              <a:t>Key: refilled/regained/reopened/redo/re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557360"/>
            <a:ext cx="295272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 through during his lifetime out of a fairy tale in history             in ruins                in pieces         come true        unde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1557360"/>
            <a:ext cx="374508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n th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…back to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ut bac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ith the hel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ook out over th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981000"/>
            <a:ext cx="2808360" cy="5031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未成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照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正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修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被控制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待改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re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理中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修缮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under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受盘问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讲座中的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125360"/>
            <a:ext cx="4535280" cy="4483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v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把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...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放回原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使恢复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原职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代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取代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(by, with)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接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赔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【化】置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coal by [with]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用煤气代替煤作燃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eplace borrowed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还借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R-the magazines after re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杂志阅后放回原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Can anything replace a mother's love and c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有什么东西能取代母亲的爱和关怀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1125360"/>
            <a:ext cx="4319640" cy="46677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 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恢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元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恢复意识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 复职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(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复辟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放回原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归还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交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修复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]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重建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;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补正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校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consciou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恢复知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苏醒过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sb. to his old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使某人复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the book to the sh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把书放回书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restore an extinct kind of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制作绝种动物的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24000" y="404640"/>
            <a:ext cx="4753080" cy="825120"/>
          </a:xfrm>
          <a:prstGeom prst="rect">
            <a:avLst/>
          </a:prstGeom>
          <a:solidFill>
            <a:srgbClr val="afa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3284640"/>
            <a:ext cx="2087280" cy="93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3500280"/>
            <a:ext cx="208764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164200">
            <a:off x="1476000" y="4868640"/>
            <a:ext cx="1943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342200">
            <a:off x="758520" y="2179440"/>
            <a:ext cx="1944720" cy="6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213372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36450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2421000"/>
            <a:ext cx="23050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179200">
            <a:off x="5508360" y="4869000"/>
            <a:ext cx="2952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724280"/>
            <a:ext cx="28814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3500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kind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781360"/>
            <a:ext cx="287280" cy="360360"/>
          </a:xfrm>
          <a:prstGeom prst="up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220500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ong, proud, un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29264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537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cultural re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alaces, paintings, stat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299200">
            <a:off x="6588000" y="551664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205000">
            <a:off x="6081840" y="564624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140200">
            <a:off x="5569200" y="50382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stroyed by Ger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32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re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00720" y="36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n 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06600">
            <a:off x="826200" y="5516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happened after the Russian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103000">
            <a:off x="1475640" y="494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ept as muse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31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n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3573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ver 300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after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0720" y="24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built the city and restored its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346400">
            <a:off x="684720" y="1628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when att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482600">
            <a:off x="972000" y="220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ever giv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716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364500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78800">
            <a:off x="5866920" y="4365720"/>
            <a:ext cx="432000" cy="215640"/>
          </a:xfrm>
          <a:custGeom>
            <a:avLst/>
            <a:gdLst>
              <a:gd name="textAreaLeft" fmla="*/ 6732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151600">
            <a:off x="2771640" y="429264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722200">
            <a:off x="5435640" y="306828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161200">
            <a:off x="2484000" y="2852640"/>
            <a:ext cx="647640" cy="216000"/>
          </a:xfrm>
          <a:prstGeom prst="leftArrow">
            <a:avLst>
              <a:gd name="adj1" fmla="val 50000"/>
              <a:gd name="adj2" fmla="val 7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1341360"/>
            <a:ext cx="216000" cy="1871640"/>
          </a:xfrm>
          <a:prstGeom prst="upDownArrow">
            <a:avLst>
              <a:gd name="adj1" fmla="val 50000"/>
              <a:gd name="adj2" fmla="val 17249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2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4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6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8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2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116240" cy="496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248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2708280"/>
            <a:ext cx="6119640" cy="1800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afaaf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141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mercialScript BT"/>
              </a:rPr>
              <a:t>A City of Her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765000"/>
            <a:ext cx="45370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Fill in the blanks according to the 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557360"/>
            <a:ext cx="7921800" cy="521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ty is built on th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an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Neva Riv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its center. After the Russi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v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palaces there wer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k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museums. The city w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under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ree months during the Second Word War, but people there didn’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German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uildings and everywhere you could see paintings and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at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ie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whole city was i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u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fter the war, Russian people began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bui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. They wanted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ty back t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Now, many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ieces have bee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pla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ld portraits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cre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city ha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to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reams can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00280"/>
            <a:ext cx="865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133720"/>
            <a:ext cx="1008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565360"/>
            <a:ext cx="165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565360"/>
            <a:ext cx="72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299736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2997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20000" y="3429000"/>
            <a:ext cx="64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3429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3860640"/>
            <a:ext cx="136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4292640"/>
            <a:ext cx="107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4292640"/>
            <a:ext cx="792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4724280"/>
            <a:ext cx="792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84640"/>
            <a:ext cx="10810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5084640"/>
            <a:ext cx="7905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5516640"/>
            <a:ext cx="576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5516640"/>
            <a:ext cx="1079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595008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950080"/>
            <a:ext cx="129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6381720"/>
            <a:ext cx="12258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638172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4464000" cy="5700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0920" y="1557360"/>
            <a:ext cx="5400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俄罗斯第二大城市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——圣彼得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068640"/>
            <a:ext cx="828180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圣彼得堡１９８８年与中国上海市结为友好城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832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68360" y="16286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Monotype Corsiva"/>
              </a:rPr>
              <a:t>WINTER PA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492280"/>
            <a:ext cx="6767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CommercialScript BT"/>
              </a:rPr>
              <a:t>GOODBY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981000"/>
            <a:ext cx="8353440" cy="471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name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the heroes of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ifference between “A city of Heroes” and “Heroes of a City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146376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St.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56536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Both Peter the Great and the people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14972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A City of Heroes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a city, where there are many heroes; while “</a:t>
            </a:r>
            <a:r>
              <a:rPr b="0" lang="zh-CN" sz="2800" spc="-1" strike="noStrike">
                <a:solidFill>
                  <a:srgbClr val="009999"/>
                </a:solidFill>
                <a:latin typeface="Monotype Corsiva"/>
              </a:rPr>
              <a:t>Heroes of a City</a:t>
            </a:r>
            <a:r>
              <a:rPr b="0" lang="zh-CN" sz="2800" spc="-1" strike="noStrike">
                <a:solidFill>
                  <a:srgbClr val="ff3300"/>
                </a:solidFill>
                <a:latin typeface="Monotype Corsiva"/>
              </a:rPr>
              <a:t>” focuses on heroes, who live in a city. So the passage tells mainly  about the city of St Pet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260280"/>
            <a:ext cx="237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Pre-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836640"/>
            <a:ext cx="5111640" cy="398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 these questions with your part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484280"/>
            <a:ext cx="76345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Some cities, like Paris and Beijing, are called great cities of the world. In your opinion, what makes a city gr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3068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2852640"/>
            <a:ext cx="7921800" cy="24940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has a long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is usually the capital of a country and has a    larg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at city will produce many great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ity is great if something important once took plac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3.gif (8366 bytes)"/>
          <p:cNvPicPr/>
          <p:nvPr/>
        </p:nvPicPr>
        <p:blipFill>
          <a:blip r:embed="rId1"/>
          <a:stretch/>
        </p:blipFill>
        <p:spPr>
          <a:xfrm>
            <a:off x="6659640" y="0"/>
            <a:ext cx="685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32000" y="620640"/>
            <a:ext cx="633564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What are your favourite citi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4920" y="155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1484280"/>
            <a:ext cx="7632720" cy="8254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.What cultural relics are there in the place where you live? How importan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2565360"/>
            <a:ext cx="6913440" cy="28598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Sample: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tell us who our ancestors were and what their life was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help us better understand who we are and where are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hey show the development of human civi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177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42920" y="260280"/>
            <a:ext cx="21607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1052640"/>
            <a:ext cx="5400720" cy="94716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ain ideas of each para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98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492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cline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3068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build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364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graph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sent situation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205000"/>
            <a:ext cx="73080" cy="1800360"/>
          </a:xfrm>
          <a:custGeom>
            <a:avLst/>
            <a:gdLst>
              <a:gd name="textAreaLeft" fmla="*/ 46800 w 73080"/>
              <a:gd name="textAreaRight" fmla="*/ 73440 w 730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782720" cy="3038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03280" y="4437000"/>
            <a:ext cx="2376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197000"/>
            <a:ext cx="316728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tyles of the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1413000"/>
            <a:ext cx="863280" cy="28872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692280"/>
            <a:ext cx="144720" cy="1726920"/>
          </a:xfrm>
          <a:custGeom>
            <a:avLst/>
            <a:gdLst>
              <a:gd name="textAreaLeft" fmla="*/ 92520 w 144720"/>
              <a:gd name="textAreaRight" fmla="*/ 145080 w 14472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549360"/>
            <a:ext cx="3672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Narr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记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Descrip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描写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Exposi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说明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Argumentation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议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80880" y="1052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9072600">
            <a:off x="2484000" y="1699920"/>
            <a:ext cx="3888000" cy="144360"/>
          </a:xfrm>
          <a:custGeom>
            <a:avLst/>
            <a:gdLst>
              <a:gd name="textAreaLeft" fmla="*/ 607320 w 3888000"/>
              <a:gd name="textAreaRight" fmla="*/ 3402000 w 3888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708280"/>
            <a:ext cx="2953080" cy="520560"/>
          </a:xfrm>
          <a:prstGeom prst="rect">
            <a:avLst/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lues of wri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789360"/>
            <a:ext cx="208764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Order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3284640"/>
            <a:ext cx="289080" cy="504720"/>
          </a:xfrm>
          <a:prstGeom prst="downArrow">
            <a:avLst>
              <a:gd name="adj1" fmla="val 50000"/>
              <a:gd name="adj2" fmla="val 43649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3860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solidFill>
            <a:srgbClr val="afaa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781360"/>
            <a:ext cx="289080" cy="25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2708280"/>
            <a:ext cx="421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1917 Russian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The battle in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Rebuilding of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Gulim"/>
              </a:rPr>
              <a:t>St. Petersburg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16000" y="333360"/>
            <a:ext cx="136836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126828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836640"/>
            <a:ext cx="7273800" cy="53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ich river flows through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y build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at were the palaces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When did the Germans attack the 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How long did they attack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Did people there give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126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v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206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undred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92428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and beautiful , look like something out of a fairy 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86064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789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4581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5373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they never gave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68360" y="220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60280"/>
            <a:ext cx="74898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do people think St Petersburg is a great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was it so difficult for people to rebuild the old pala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at did people use to help them rebuild the 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y are the people of St Petersburg her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692280"/>
            <a:ext cx="52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of many important historic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ived the German attack in 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onderful as it once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2492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ly damaged. Few modern Russian artists knew exactly what it looked like and there were many missing parts and pie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4005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ssian artists used old paintings and photos to rebuild St Petersbu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530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made something impossible possible. They have successfully rebuilt the palaces without destroying their old beau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8:50:41Z</dcterms:created>
  <dc:creator>abc</dc:creator>
  <dc:description/>
  <dc:language>en-US</dc:language>
  <cp:lastModifiedBy>abc</cp:lastModifiedBy>
  <dcterms:modified xsi:type="dcterms:W3CDTF">2003-11-21T06:08:46Z</dcterms:modified>
  <cp:revision>40</cp:revision>
  <dc:subject/>
  <dc:title>幻灯片 1</dc:title>
</cp:coreProperties>
</file>